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F552-CACC-45F4-8557-E30CC17C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rite your individual response on a post-it notes (one idea on each post-it n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are with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oup them and look for themes and trends based on Core Capa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 them around the graphic organizers of the Core Capa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mplate should include 5 core capacities and allow for organization of pile up and ID of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8.5x11 paper to record themes (one per paper); tables post themes on wall with 5 core capacities (placed in a circular pattern); have some materials for tables to make connections (e.g. string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vite observations /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individual Core Capacities (legal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for the group (ledger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im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ime: 15- 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48B-F7A5-4570-9859-88F0A45F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6A0-3909-40F7-8A29-FB78ADD4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B88-9A35-4483-946D-9E28E723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D30-5988-465D-84B5-4B9C21B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7096-1F15-4E21-B3FF-09A2F02F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C26A-4629-4331-B682-961DA6AC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97ED-0236-4F91-9BF6-D0972B1E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F3C0-316E-4F92-BE7D-BE9004A1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55C6-B402-4DA0-B250-FC36F1B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2A81-A544-4296-AEF0-540B7BDC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61B7-AE31-40A0-82FD-7334BB72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C9C-2305-4B12-9D52-BD38E9C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3E92-E5FD-4557-98D0-C23DDA2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5941-76CB-4704-A97C-1B8471D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6C75-3E68-4902-BBE4-A370041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D782-7385-451A-B62B-E935660C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1F1-0162-4F7B-8AF1-45487DFB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2C7-C760-443A-AE9C-AF3B003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715-A8C5-40C1-BDB7-2C392480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D32-D8BB-4E8D-AF66-DDB64C40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44D-3B26-4701-B174-74944B5E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2C0-4D57-4A16-A6F8-DAFEDE4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E76-8630-4E6F-9E00-61791596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3CB-B704-4093-B62C-ECCC57C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6DC-699A-48CC-9DCE-0568431F608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1e73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5980-D547-492A-A18F-E10BF5A3D42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728280"/>
            <a:ext cx="57150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PLMLC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Leadership Ser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Thunder Bay Region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79640" y="4446720"/>
            <a:ext cx="579600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an Harrison, YRD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ie Quadrini, YCD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iday February 4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Activit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s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finements to Pla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district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refinements with small / whol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1-01-26T04:36:42Z</dcterms:modified>
  <cp:revision>101</cp:revision>
  <dc:subject/>
  <dc:title>Slide 1</dc:title>
</cp:coreProperties>
</file>